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58658-5D2E-4B8B-8A02-FD80016D3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7481-0A2B-4628-996D-2481467A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F8DA0-2026-455D-9E7A-44D119C06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57E30-D375-48A7-A7B0-5B4490BBB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F7AE9-CD82-4FEA-BB7C-6F36F200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ADF1E-EA39-4F9E-8E47-B76AA4EC3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908E-7821-46D3-BB19-A0390A9FF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E8099-3911-4844-BBAC-04DA9457B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F740-24DC-42E5-92DE-DC35CE630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9D0D5-3ECC-4EF5-9950-9B38CA920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B881-1F48-48A9-9A00-B4C9681AB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0514-CA56-4227-85C9-69ADF4108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01DF-34B4-4FDC-AA3D-D3F78D71EC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ing While Reading Effects Comprehension</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telyn Massi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tober 12, 2010</a:t>
            </a:r>
            <a:endParaRPr b="0" lang="en-US" sz="3200" spc="-1" strike="noStrike">
              <a:solidFill>
                <a:srgbClr val="ffffff"/>
              </a:solidFill>
              <a:latin typeface="Arial"/>
            </a:endParaRPr>
          </a:p>
        </p:txBody>
      </p:sp>
      <p:pic>
        <p:nvPicPr>
          <p:cNvPr id="43" name="" descr=""/>
          <p:cNvPicPr/>
          <p:nvPr/>
        </p:nvPicPr>
        <p:blipFill>
          <a:blip r:embed="rId1"/>
          <a:stretch/>
        </p:blipFill>
        <p:spPr>
          <a:xfrm>
            <a:off x="3200400" y="5064120"/>
            <a:ext cx="2819520" cy="17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Recommendations</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ing in the classroom has a large effect on comprehension.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mportant to incorporate questioning during reading whether it comes from the teacher or from the student.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questioning is involved, students will comprehend the text better and be more engaged in the reading.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teacher, be able to answer this question: how do you question students? Have an effective method that benefits the stud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me</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ing while reading is very important in the classrooms because it enhances comprehension and it involves children in the tex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s should ask questions because it enhances the text and to observe the students comprehens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ing constructs meaning of the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Gregory &amp; M. Cahill (2010)</a:t>
            </a: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Using an anchor chart as a strategy for questioning.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xpert readers ask questions before, during and after they rea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his helps children to interact with the text and to critically examine the text. </a:t>
            </a:r>
            <a:endParaRPr b="0" lang="en-US" sz="2800" spc="-1" strike="noStrike">
              <a:solidFill>
                <a:srgbClr val="ffffff"/>
              </a:solidFill>
              <a:latin typeface="Arial"/>
            </a:endParaRPr>
          </a:p>
        </p:txBody>
      </p:sp>
      <p:pic>
        <p:nvPicPr>
          <p:cNvPr id="48" name="" descr=""/>
          <p:cNvPicPr/>
          <p:nvPr/>
        </p:nvPicPr>
        <p:blipFill>
          <a:blip r:embed="rId1"/>
          <a:stretch/>
        </p:blipFill>
        <p:spPr>
          <a:xfrm>
            <a:off x="4495680" y="1523880"/>
            <a:ext cx="41911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 Crowe &amp; P. Stanford (2010)</a:t>
            </a: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found that a common characteristic in classrooms is that teachers do most of the talking. </a:t>
            </a:r>
            <a:endParaRPr b="0" lang="en-US" sz="2200" spc="-1" strike="noStrike">
              <a:solidFill>
                <a:srgbClr val="ffffff"/>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s need to give students more time to evaluate their questions and to share them to the class. </a:t>
            </a:r>
            <a:endParaRPr b="0" lang="en-US" sz="2200" spc="-1" strike="noStrike">
              <a:solidFill>
                <a:srgbClr val="ffffff"/>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tilize the different types of questioning such as knowledge, comprehension, application, analysis, evaluation, and synthesis.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51" name="" descr=""/>
          <p:cNvPicPr/>
          <p:nvPr/>
        </p:nvPicPr>
        <p:blipFill>
          <a:blip r:embed="rId1"/>
          <a:stretch/>
        </p:blipFill>
        <p:spPr>
          <a:xfrm>
            <a:off x="4648320" y="1600200"/>
            <a:ext cx="4038480" cy="4525920"/>
          </a:xfrm>
          <a:prstGeom prst="rect">
            <a:avLst/>
          </a:prstGeom>
          <a:ln w="0">
            <a:noFill/>
          </a:ln>
        </p:spPr>
      </p:pic>
      <p:pic>
        <p:nvPicPr>
          <p:cNvPr id="52" name="" descr=""/>
          <p:cNvPicPr/>
          <p:nvPr/>
        </p:nvPicPr>
        <p:blipFill>
          <a:blip r:embed="rId2"/>
          <a:stretch/>
        </p:blipFill>
        <p:spPr>
          <a:xfrm>
            <a:off x="5105520" y="2438280"/>
            <a:ext cx="3352680" cy="266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 Dwyer (2007)</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l comprehension: Recognizing what is directly stated in the text. Gets the children off to a good start in comprehending the reading.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l comprehension flows into interpretive questioning which allows children to read between the lines and to have a better understanding of the text or also known as critical thinking.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sky’s category of questions; recognition, translation, inference, evaluation, explanation, explanation, and imagining.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questions can be used for all grade leve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 Hannel (2009) </a:t>
            </a: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many teachers have been taught the practical pedagogy of questioning.</a:t>
            </a:r>
            <a:endParaRPr b="0" lang="en-US" sz="2000" spc="-1" strike="noStrike">
              <a:solidFill>
                <a:srgbClr val="ffffff"/>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question students?</a:t>
            </a:r>
            <a:endParaRPr b="0" lang="en-US" sz="2000" spc="-1" strike="noStrike">
              <a:solidFill>
                <a:srgbClr val="ffffff"/>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ncrease effective questioning, teachers must create a classroom environment that is conductive to questioning and that challenges the students. Teachers must develop an expert pattern of questioning, and to understand why some students are not able to answer well scaffolded questions. </a:t>
            </a:r>
            <a:endParaRPr b="0" lang="en-US" sz="2000" spc="-1" strike="noStrike">
              <a:solidFill>
                <a:srgbClr val="ffffff"/>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questioning!</a:t>
            </a:r>
            <a:endParaRPr b="0" lang="en-US" sz="2000" spc="-1" strike="noStrike">
              <a:solidFill>
                <a:srgbClr val="ffffff"/>
              </a:solidFill>
              <a:latin typeface="Arial"/>
            </a:endParaRPr>
          </a:p>
        </p:txBody>
      </p:sp>
      <p:sp>
        <p:nvSpPr>
          <p:cNvPr id="57" name=""/>
          <p:cNvSpPr txBox="1"/>
          <p:nvPr/>
        </p:nvSpPr>
        <p:spPr>
          <a:xfrm>
            <a:off x="4800240" y="1447920"/>
            <a:ext cx="38862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 “What answer did you selec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I chose 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 “Okay. Why’d you decide on 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Because it’s tru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 “Fine, but why is it tru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Because it is the author’s purpos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 “But what makes the answer the author’s</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urpo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 </a:t>
            </a:r>
            <a:endParaRPr b="0" lang="en-US" sz="4400" spc="-1" strike="noStrike">
              <a:solidFill>
                <a:srgbClr val="ffffff"/>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r>
              <a:rPr b="0" lang="en-US" sz="1400" spc="-1" strike="noStrike">
                <a:solidFill>
                  <a:srgbClr val="ffffff"/>
                </a:solidFill>
                <a:latin typeface="Arial"/>
              </a:rPr>
              <a:t>: “Manuel, what was the</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 idea of what we read</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class yesterday?</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el</a:t>
            </a:r>
            <a:r>
              <a:rPr b="0" lang="en-US" sz="1400" spc="-1" strike="noStrike">
                <a:solidFill>
                  <a:srgbClr val="ffffff"/>
                </a:solidFill>
                <a:latin typeface="Arial"/>
              </a:rPr>
              <a:t>: “I didn’t have my hand</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r>
              <a:rPr b="0" lang="en-US" sz="1400" spc="-1" strike="noStrike">
                <a:solidFill>
                  <a:srgbClr val="ffffff"/>
                </a:solidFill>
                <a:latin typeface="Arial"/>
              </a:rPr>
              <a:t> “I know. But I’m still</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ing on you.”</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el</a:t>
            </a:r>
            <a:r>
              <a:rPr b="0" lang="en-US" sz="1400" spc="-1" strike="noStrike">
                <a:solidFill>
                  <a:srgbClr val="ffffff"/>
                </a:solidFill>
                <a:latin typeface="Arial"/>
              </a:rPr>
              <a:t>: Stares back, silent.</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r>
              <a:rPr b="0" lang="en-US" sz="1400" spc="-1" strike="noStrike">
                <a:solidFill>
                  <a:srgbClr val="ffffff"/>
                </a:solidFill>
                <a:latin typeface="Arial"/>
              </a:rPr>
              <a:t> “Manuel, you know our</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les during HEQ. I am</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owed to call on any of</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But remember, this</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only last for a few</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minutes, okay?”</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el:</a:t>
            </a:r>
            <a:r>
              <a:rPr b="0" lang="en-US" sz="1400" spc="-1" strike="noStrike">
                <a:solidFill>
                  <a:srgbClr val="ffffff"/>
                </a:solidFill>
                <a:latin typeface="Arial"/>
              </a:rPr>
              <a:t> “I want to pass.”</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r>
              <a:rPr b="0" lang="en-US" sz="1400" spc="-1" strike="noStrike">
                <a:solidFill>
                  <a:srgbClr val="ffffff"/>
                </a:solidFill>
                <a:latin typeface="Arial"/>
              </a:rPr>
              <a:t> “No, you can’t pass. I just</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 you to try and answer</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question. Let me ask</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 again. What was the</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 idea of what we read</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esterday? You don’t have</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be perfect, but you must</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y to answer.”</a:t>
            </a:r>
            <a:endParaRPr b="0" lang="en-US" sz="1400" spc="-1" strike="noStrike">
              <a:solidFill>
                <a:srgbClr val="ffffff"/>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t>
            </a:r>
            <a:r>
              <a:rPr b="0" i="1" lang="en-US" sz="1200" spc="-1" strike="noStrike">
                <a:solidFill>
                  <a:srgbClr val="ffffff"/>
                </a:solidFill>
                <a:latin typeface="Arial"/>
              </a:rPr>
              <a:t>Think that will work so the teacher won’t</a:t>
            </a:r>
            <a:endParaRPr b="0" lang="en-US" sz="1200" spc="-1" strike="noStrike">
              <a:solidFill>
                <a:srgbClr val="ffffff"/>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all on you today?”</a:t>
            </a:r>
            <a:endParaRPr b="0" lang="en-US" sz="1200" spc="-1" strike="noStrike">
              <a:solidFill>
                <a:srgbClr val="ffffff"/>
              </a:solidFill>
              <a:latin typeface="Arial"/>
            </a:endParaRPr>
          </a:p>
        </p:txBody>
      </p:sp>
      <p:pic>
        <p:nvPicPr>
          <p:cNvPr id="61" name="" descr=""/>
          <p:cNvPicPr/>
          <p:nvPr/>
        </p:nvPicPr>
        <p:blipFill>
          <a:blip r:embed="rId2"/>
          <a:stretch/>
        </p:blipFill>
        <p:spPr>
          <a:xfrm>
            <a:off x="4648320" y="1447920"/>
            <a:ext cx="3538440" cy="39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t Ideas</a:t>
            </a: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sking questions! Don’t make questioning a bad thing. Encourage the students and make it a positive experienc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ifferent strategies such as the anchor chart, Bloom’s questions and Trosky’s question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n effective pattern of questioning skills that benefits the student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should not so most of the talking, let students think and share their question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t Ideas</a:t>
            </a:r>
            <a:endParaRPr b="0" lang="en-US" sz="44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ing questions in the middle of a book does not ruin the story. It enhances the comprehension of the text for the stud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questions open minded and practical to the reading. Let students elaborat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bserve the students while asking questions or while questions are being asked. If students are not asking questions or not answering questions, they are most likely not comprehending the tex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17:13:09Z</dcterms:created>
  <dc:creator>Katelyn</dc:creator>
  <dc:description/>
  <dc:language>en-US</dc:language>
  <cp:lastModifiedBy>Katelyn</cp:lastModifiedBy>
  <dcterms:modified xsi:type="dcterms:W3CDTF">2010-10-12T02:46:56Z</dcterms:modified>
  <cp:revision>2</cp:revision>
  <dc:subject/>
  <dc:title>Questioning While Reading Effects Comprehension</dc:title>
</cp:coreProperties>
</file>